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wmf" ContentType="image/x-wmf"/>
  <Override PartName="/ppt/media/image20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42F-F6F0-4D13-9DD7-7AC2E1A4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666-F277-47D6-B996-658C2AB7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97E1-74E3-4DD9-A671-BEDC6052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EFB-18F6-46CB-BC55-DF285127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0F3-A144-40CB-BF79-B69DC648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A24-715B-41F2-94CF-1DC30E41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32A-59A9-45EF-A4E1-3ECF6FB2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1D6-EFCB-42D2-9668-3EAD3A4E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85A-CE5F-451C-B4D6-BCDF3B93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39CA-475B-4154-BF94-605706FD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16E-3598-4496-8B11-38C6F1DC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AC1-B5A1-428A-8FFC-8C0F4D3D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42E4-0947-4CD2-A222-6349A880A7C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E08D-86D6-45A1-97C8-E28CE76BAF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82760" y="645840"/>
            <a:ext cx="9912240" cy="347508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Species diversity determinants in relation to the relationship between species richness and productivit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TextovéPole 2"/>
          <p:cNvSpPr/>
          <p:nvPr/>
        </p:nvSpPr>
        <p:spPr>
          <a:xfrm>
            <a:off x="5154840" y="5040360"/>
            <a:ext cx="194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leš Lis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23800" y="4181400"/>
            <a:ext cx="4619880" cy="2305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7278840" y="4343400"/>
            <a:ext cx="4533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ovéPole 4"/>
          <p:cNvSpPr/>
          <p:nvPr/>
        </p:nvSpPr>
        <p:spPr>
          <a:xfrm>
            <a:off x="3303720" y="519120"/>
            <a:ext cx="55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te disturbance 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"/>
          <p:cNvSpPr/>
          <p:nvPr/>
        </p:nvSpPr>
        <p:spPr>
          <a:xfrm>
            <a:off x="587520" y="2962440"/>
            <a:ext cx="609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equilibriu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 IDH can be  a special case of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2"/>
          <p:cNvSpPr/>
          <p:nvPr/>
        </p:nvSpPr>
        <p:spPr>
          <a:xfrm>
            <a:off x="9806040" y="6318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Huston, 20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5626080" y="1249200"/>
            <a:ext cx="5653080" cy="543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073160" y="804960"/>
            <a:ext cx="4541760" cy="5261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6573960" y="879480"/>
            <a:ext cx="4537080" cy="5078520"/>
          </a:xfrm>
          <a:prstGeom prst="rect">
            <a:avLst/>
          </a:prstGeom>
          <a:ln w="0">
            <a:noFill/>
          </a:ln>
        </p:spPr>
      </p:pic>
      <p:sp>
        <p:nvSpPr>
          <p:cNvPr id="109" name="TextovéPole 2"/>
          <p:cNvSpPr/>
          <p:nvPr/>
        </p:nvSpPr>
        <p:spPr>
          <a:xfrm>
            <a:off x="10122120" y="628164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Huston, 20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10040" y="500040"/>
            <a:ext cx="3362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5400" spc="-1" strike="noStrike">
                <a:solidFill>
                  <a:srgbClr val="92d050"/>
                </a:solidFill>
                <a:latin typeface="Calibri Light"/>
              </a:rPr>
              <a:t>Message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hypothesis is sufficient to explain relationship between productivit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disturbance level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diversity al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ovéPole 5"/>
          <p:cNvSpPr/>
          <p:nvPr/>
        </p:nvSpPr>
        <p:spPr>
          <a:xfrm>
            <a:off x="3032640" y="5543640"/>
            <a:ext cx="5999400" cy="642600"/>
          </a:xfrm>
          <a:prstGeom prst="rect">
            <a:avLst/>
          </a:prstGeom>
          <a:solidFill>
            <a:srgbClr val="44b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24280" y="365040"/>
            <a:ext cx="2743200" cy="1325520"/>
          </a:xfrm>
          <a:prstGeom prst="rect">
            <a:avLst/>
          </a:prstGeom>
          <a:solidFill>
            <a:srgbClr val="44be4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ylor, D. R., Aarssen, L. W., &amp; Loehle, C. (1990). On the relationship between r/K selection and environmental carrying capacity: a new habitat templet for plant life history strategie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Oikos, 58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239-250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nell, H. V., &amp; Harrison, S. P. (2014). What Are Species Pools and When Are They Important? Annual Review of Ecology,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volution, and Systematics, 45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45-67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ZobelM. (1997): The relative role of species pool in determining plant species richness: an alternative explanation of species coexistence? -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rends in Ecology &amp; Evolution 1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266-269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utayeJ., JacquemynH., HonnayO. &amp; HermyM. (2001): The species pool concept applied to forests in a fragmented landscape: dispersal limitation versus habitat limitation. -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Journal of Vegetation Science 1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27-34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lman, D., &amp; Pacala, S. 1993. The maintenance of species richness in plant communities. In: Ricklefs, R. E., &amp; Schluter, D. (eds): Species diversity in ecological communities. Historical and geographical perspectives,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University of Chicago Pres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pp. 13-25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ikvidze, Z., Suzuki, M., &amp; Brooker, R. (2011). Importance versus intensity of ecological effects: why context matters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. Trends in ecology &amp; evolution, 26(8)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83-38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aser, L. H., Pither, J., Jentsch, A., Sternberg, M., Zobel, M., Askarizadeh, D., ... &amp; Schmidt, A. (2015). Worldwide evidence of a unimodal relationship between productivity and plant species richnes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cience, 349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6245), 302-30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ajaniemi, T. K. (2003). Explaining productivity‐diversity relationships in plant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Oikos, 10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449-457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nell, J. H. (1978). Diversity in tropical rain forests and coral reef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cien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199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4335), 1302-131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uston, M. A. (2014). Disturbance, productivity, and species diversity: empiricism vs. logic in ecological theory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cology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95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9), 2382-239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611440" y="1598760"/>
            <a:ext cx="668340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5160" y="428760"/>
            <a:ext cx="6257880" cy="13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Calibri Light"/>
              </a:rPr>
              <a:t>Diversity/productivity relationship</a:t>
            </a:r>
            <a:br>
              <a:rPr sz="4000"/>
            </a:b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Many different interpretations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Rajaniemi, 2003</a:t>
            </a:r>
            <a:r>
              <a:rPr b="0" lang="en-US" sz="900" spc="-1" strike="noStrike">
                <a:solidFill>
                  <a:srgbClr val="000000"/>
                </a:solidFill>
                <a:latin typeface="Calibri Light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Obrázek 3" descr=""/>
          <p:cNvPicPr/>
          <p:nvPr/>
        </p:nvPicPr>
        <p:blipFill>
          <a:blip r:embed="rId1"/>
          <a:stretch/>
        </p:blipFill>
        <p:spPr>
          <a:xfrm>
            <a:off x="6178680" y="193680"/>
            <a:ext cx="5770440" cy="6561000"/>
          </a:xfrm>
          <a:prstGeom prst="rect">
            <a:avLst/>
          </a:prstGeom>
          <a:ln w="0">
            <a:noFill/>
          </a:ln>
        </p:spPr>
      </p:pic>
      <p:sp>
        <p:nvSpPr>
          <p:cNvPr id="47" name="TextovéPole 6"/>
          <p:cNvSpPr/>
          <p:nvPr/>
        </p:nvSpPr>
        <p:spPr>
          <a:xfrm>
            <a:off x="10402200" y="618156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S PGothic"/>
              </a:rPr>
              <a:t>(Fraser et al., 201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7"/>
          <p:cNvSpPr/>
          <p:nvPr/>
        </p:nvSpPr>
        <p:spPr>
          <a:xfrm>
            <a:off x="10402200" y="5913360"/>
            <a:ext cx="13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S PGothic"/>
              </a:rPr>
              <a:t>(Tilman &amp; Pacala, 199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8"/>
          <p:cNvSpPr/>
          <p:nvPr/>
        </p:nvSpPr>
        <p:spPr>
          <a:xfrm>
            <a:off x="940320" y="2103480"/>
            <a:ext cx="42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few species are able to tol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levels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10"/>
          <p:cNvSpPr/>
          <p:nvPr/>
        </p:nvSpPr>
        <p:spPr>
          <a:xfrm>
            <a:off x="952200" y="3506760"/>
            <a:ext cx="508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switch from underground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boveground competition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13" descr=""/>
          <p:cNvPicPr/>
          <p:nvPr/>
        </p:nvPicPr>
        <p:blipFill>
          <a:blip r:embed="rId2"/>
          <a:stretch/>
        </p:blipFill>
        <p:spPr>
          <a:xfrm>
            <a:off x="155520" y="1881360"/>
            <a:ext cx="571680" cy="1028520"/>
          </a:xfrm>
          <a:prstGeom prst="rect">
            <a:avLst/>
          </a:prstGeom>
          <a:ln w="0">
            <a:noFill/>
          </a:ln>
        </p:spPr>
      </p:pic>
      <p:pic>
        <p:nvPicPr>
          <p:cNvPr id="52" name="Obrázek 14" descr=""/>
          <p:cNvPicPr/>
          <p:nvPr/>
        </p:nvPicPr>
        <p:blipFill>
          <a:blip r:embed="rId3"/>
          <a:stretch/>
        </p:blipFill>
        <p:spPr>
          <a:xfrm>
            <a:off x="155520" y="3679920"/>
            <a:ext cx="571680" cy="1028520"/>
          </a:xfrm>
          <a:prstGeom prst="rect">
            <a:avLst/>
          </a:prstGeom>
          <a:ln w="0">
            <a:noFill/>
          </a:ln>
        </p:spPr>
      </p:pic>
      <p:pic>
        <p:nvPicPr>
          <p:cNvPr id="53" name="Obrázek 2" descr=""/>
          <p:cNvPicPr/>
          <p:nvPr/>
        </p:nvPicPr>
        <p:blipFill>
          <a:blip r:embed="rId4"/>
          <a:stretch/>
        </p:blipFill>
        <p:spPr>
          <a:xfrm>
            <a:off x="4737240" y="4759200"/>
            <a:ext cx="839520" cy="1632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4" descr=""/>
          <p:cNvPicPr/>
          <p:nvPr/>
        </p:nvPicPr>
        <p:blipFill>
          <a:blip r:embed="rId5"/>
          <a:stretch/>
        </p:blipFill>
        <p:spPr>
          <a:xfrm>
            <a:off x="3143160" y="4621320"/>
            <a:ext cx="887400" cy="172548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5" descr=""/>
          <p:cNvPicPr/>
          <p:nvPr/>
        </p:nvPicPr>
        <p:blipFill>
          <a:blip r:embed="rId6"/>
          <a:stretch/>
        </p:blipFill>
        <p:spPr>
          <a:xfrm>
            <a:off x="3927600" y="4708440"/>
            <a:ext cx="839520" cy="1631880"/>
          </a:xfrm>
          <a:prstGeom prst="rect">
            <a:avLst/>
          </a:prstGeom>
          <a:ln w="0">
            <a:noFill/>
          </a:ln>
        </p:spPr>
      </p:pic>
      <p:pic>
        <p:nvPicPr>
          <p:cNvPr id="56" name="Obrázek 16" descr=""/>
          <p:cNvPicPr/>
          <p:nvPr/>
        </p:nvPicPr>
        <p:blipFill>
          <a:blip r:embed="rId7"/>
          <a:stretch/>
        </p:blipFill>
        <p:spPr>
          <a:xfrm>
            <a:off x="611280" y="5540400"/>
            <a:ext cx="71280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Obrázek 17" descr=""/>
          <p:cNvPicPr/>
          <p:nvPr/>
        </p:nvPicPr>
        <p:blipFill>
          <a:blip r:embed="rId8"/>
          <a:stretch/>
        </p:blipFill>
        <p:spPr>
          <a:xfrm>
            <a:off x="1987560" y="5513400"/>
            <a:ext cx="74448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Obrázek 18" descr=""/>
          <p:cNvPicPr/>
          <p:nvPr/>
        </p:nvPicPr>
        <p:blipFill>
          <a:blip r:embed="rId9"/>
          <a:stretch/>
        </p:blipFill>
        <p:spPr>
          <a:xfrm>
            <a:off x="1289160" y="5540400"/>
            <a:ext cx="777600" cy="127476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15" descr=""/>
          <p:cNvPicPr/>
          <p:nvPr/>
        </p:nvPicPr>
        <p:blipFill>
          <a:blip r:embed="rId10"/>
          <a:stretch/>
        </p:blipFill>
        <p:spPr>
          <a:xfrm>
            <a:off x="3693960" y="5662440"/>
            <a:ext cx="443160" cy="729000"/>
          </a:xfrm>
          <a:prstGeom prst="rect">
            <a:avLst/>
          </a:prstGeom>
          <a:ln w="0">
            <a:noFill/>
          </a:ln>
        </p:spPr>
      </p:pic>
      <p:pic>
        <p:nvPicPr>
          <p:cNvPr id="60" name="Obrázek 19" descr=""/>
          <p:cNvPicPr/>
          <p:nvPr/>
        </p:nvPicPr>
        <p:blipFill>
          <a:blip r:embed="rId11"/>
          <a:stretch/>
        </p:blipFill>
        <p:spPr>
          <a:xfrm>
            <a:off x="4546440" y="5662440"/>
            <a:ext cx="444600" cy="7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711360" y="574560"/>
            <a:ext cx="11104560" cy="5591160"/>
          </a:xfrm>
          <a:prstGeom prst="rect">
            <a:avLst/>
          </a:prstGeom>
          <a:ln w="0">
            <a:noFill/>
          </a:ln>
        </p:spPr>
      </p:pic>
      <p:sp>
        <p:nvSpPr>
          <p:cNvPr id="62" name="TextovéPole 4"/>
          <p:cNvSpPr/>
          <p:nvPr/>
        </p:nvSpPr>
        <p:spPr>
          <a:xfrm>
            <a:off x="1670400" y="6362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S PGothic"/>
              </a:rPr>
              <a:t>(Fraser et al., 201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rázek 3" descr=""/>
          <p:cNvPicPr/>
          <p:nvPr/>
        </p:nvPicPr>
        <p:blipFill>
          <a:blip r:embed="rId1"/>
          <a:stretch/>
        </p:blipFill>
        <p:spPr>
          <a:xfrm>
            <a:off x="1979640" y="611280"/>
            <a:ext cx="8232840" cy="504324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4"/>
          <p:cNvSpPr/>
          <p:nvPr/>
        </p:nvSpPr>
        <p:spPr>
          <a:xfrm>
            <a:off x="4152600" y="540864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S PGothic"/>
              </a:rPr>
              <a:t>(Kikvidze et al., 201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ázek 3" descr=""/>
          <p:cNvPicPr/>
          <p:nvPr/>
        </p:nvPicPr>
        <p:blipFill>
          <a:blip r:embed="rId1"/>
          <a:stretch/>
        </p:blipFill>
        <p:spPr>
          <a:xfrm>
            <a:off x="141120" y="851040"/>
            <a:ext cx="7410600" cy="5074920"/>
          </a:xfrm>
          <a:prstGeom prst="rect">
            <a:avLst/>
          </a:prstGeom>
          <a:ln w="0">
            <a:noFill/>
          </a:ln>
        </p:spPr>
      </p:pic>
      <p:sp>
        <p:nvSpPr>
          <p:cNvPr id="66" name="TextovéPole 4"/>
          <p:cNvSpPr/>
          <p:nvPr/>
        </p:nvSpPr>
        <p:spPr>
          <a:xfrm>
            <a:off x="985680" y="6040440"/>
            <a:ext cx="108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S PGothic"/>
              </a:rPr>
              <a:t>(Rajaniemi, 200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ovéPole 1"/>
          <p:cNvSpPr/>
          <p:nvPr/>
        </p:nvSpPr>
        <p:spPr>
          <a:xfrm>
            <a:off x="6140520" y="200160"/>
            <a:ext cx="60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Decreasing part of th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římá spojnice 15"/>
          <p:cNvSpPr/>
          <p:nvPr/>
        </p:nvSpPr>
        <p:spPr>
          <a:xfrm>
            <a:off x="7007400" y="1123920"/>
            <a:ext cx="7920" cy="2276640"/>
          </a:xfrm>
          <a:prstGeom prst="line">
            <a:avLst/>
          </a:prstGeom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římá spojnice 16"/>
          <p:cNvSpPr/>
          <p:nvPr/>
        </p:nvSpPr>
        <p:spPr>
          <a:xfrm flipV="1">
            <a:off x="7007400" y="3387600"/>
            <a:ext cx="4305240" cy="12960"/>
          </a:xfrm>
          <a:prstGeom prst="line">
            <a:avLst/>
          </a:prstGeom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délník 20"/>
          <p:cNvSpPr/>
          <p:nvPr/>
        </p:nvSpPr>
        <p:spPr>
          <a:xfrm>
            <a:off x="8994600" y="1222200"/>
            <a:ext cx="1997280" cy="210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Volný tvar 13"/>
          <p:cNvSpPr/>
          <p:nvPr/>
        </p:nvSpPr>
        <p:spPr>
          <a:xfrm>
            <a:off x="7418520" y="1327320"/>
            <a:ext cx="3481200" cy="1928520"/>
          </a:xfrm>
          <a:custGeom>
            <a:avLst/>
            <a:gdLst>
              <a:gd name="textAreaLeft" fmla="*/ 0 w 3481200"/>
              <a:gd name="textAreaRight" fmla="*/ 3481560 w 3481200"/>
              <a:gd name="textAreaTop" fmla="*/ 0 h 1928520"/>
              <a:gd name="textAreaBottom" fmla="*/ 1928880 h 1928520"/>
            </a:gdLst>
            <a:ahLst/>
            <a:rect l="textAreaLeft" t="textAreaTop" r="textAreaRight" b="textAreaBottom"/>
            <a:pathLst>
              <a:path w="3482283" h="1929510">
                <a:moveTo>
                  <a:pt x="0" y="1678193"/>
                </a:moveTo>
                <a:cubicBezTo>
                  <a:pt x="142740" y="1590187"/>
                  <a:pt x="285481" y="1502182"/>
                  <a:pt x="463639" y="1240311"/>
                </a:cubicBezTo>
                <a:cubicBezTo>
                  <a:pt x="641797" y="978440"/>
                  <a:pt x="813515" y="298007"/>
                  <a:pt x="1068946" y="106970"/>
                </a:cubicBezTo>
                <a:cubicBezTo>
                  <a:pt x="1324377" y="-84067"/>
                  <a:pt x="1730062" y="25404"/>
                  <a:pt x="1996225" y="94091"/>
                </a:cubicBezTo>
                <a:cubicBezTo>
                  <a:pt x="2262388" y="162778"/>
                  <a:pt x="2438400" y="248638"/>
                  <a:pt x="2665927" y="519094"/>
                </a:cubicBezTo>
                <a:cubicBezTo>
                  <a:pt x="2893454" y="789550"/>
                  <a:pt x="3226158" y="1482863"/>
                  <a:pt x="3361386" y="1716829"/>
                </a:cubicBezTo>
                <a:cubicBezTo>
                  <a:pt x="3496614" y="1950795"/>
                  <a:pt x="3486955" y="1936843"/>
                  <a:pt x="3477296" y="1922891"/>
                </a:cubicBezTo>
              </a:path>
            </a:pathLst>
          </a:custGeom>
          <a:noFill/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ovéPole 21"/>
          <p:cNvSpPr/>
          <p:nvPr/>
        </p:nvSpPr>
        <p:spPr>
          <a:xfrm>
            <a:off x="8347320" y="34545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22"/>
          <p:cNvSpPr/>
          <p:nvPr/>
        </p:nvSpPr>
        <p:spPr>
          <a:xfrm rot="16200000">
            <a:off x="5944680" y="199584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ál 25"/>
          <p:cNvSpPr/>
          <p:nvPr/>
        </p:nvSpPr>
        <p:spPr>
          <a:xfrm>
            <a:off x="1600200" y="1222200"/>
            <a:ext cx="1596960" cy="136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ál 26"/>
          <p:cNvSpPr/>
          <p:nvPr/>
        </p:nvSpPr>
        <p:spPr>
          <a:xfrm>
            <a:off x="1600200" y="3625920"/>
            <a:ext cx="1596960" cy="1368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8880" y="365040"/>
            <a:ext cx="1262052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at influences composition of plant communities?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TextovéPole 3"/>
          <p:cNvSpPr/>
          <p:nvPr/>
        </p:nvSpPr>
        <p:spPr>
          <a:xfrm>
            <a:off x="841680" y="141588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  <a:ea typeface="MS PGothic"/>
              </a:rPr>
              <a:t>Species pool hypothesi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S PGothic"/>
              </a:rPr>
              <a:t>(Taylor et al., 199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Obrázek 4" descr=""/>
          <p:cNvPicPr/>
          <p:nvPr/>
        </p:nvPicPr>
        <p:blipFill>
          <a:blip r:embed="rId1"/>
          <a:stretch/>
        </p:blipFill>
        <p:spPr>
          <a:xfrm>
            <a:off x="7981920" y="976320"/>
            <a:ext cx="3981600" cy="6039000"/>
          </a:xfrm>
          <a:prstGeom prst="rect">
            <a:avLst/>
          </a:prstGeom>
          <a:ln w="0">
            <a:noFill/>
          </a:ln>
        </p:spPr>
      </p:pic>
      <p:sp>
        <p:nvSpPr>
          <p:cNvPr id="79" name="TextovéPole 5"/>
          <p:cNvSpPr/>
          <p:nvPr/>
        </p:nvSpPr>
        <p:spPr>
          <a:xfrm>
            <a:off x="7549200" y="2282760"/>
            <a:ext cx="139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distance,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(rivers, mounta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6"/>
          <p:cNvSpPr/>
          <p:nvPr/>
        </p:nvSpPr>
        <p:spPr>
          <a:xfrm>
            <a:off x="7558920" y="3801960"/>
            <a:ext cx="173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lerance of abio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(tempera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idity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7"/>
          <p:cNvSpPr/>
          <p:nvPr/>
        </p:nvSpPr>
        <p:spPr>
          <a:xfrm>
            <a:off x="832320" y="2936880"/>
            <a:ext cx="52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 species able to reach the si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 and survive in loc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ovéPole 8"/>
          <p:cNvSpPr/>
          <p:nvPr/>
        </p:nvSpPr>
        <p:spPr>
          <a:xfrm>
            <a:off x="828000" y="4098960"/>
            <a:ext cx="52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ed by speciation, immigr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inc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6782760" y="647856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S PGothic"/>
              </a:rPr>
              <a:t>(Cornell &amp; Harrison, 20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ovéPole 5"/>
          <p:cNvSpPr/>
          <p:nvPr/>
        </p:nvSpPr>
        <p:spPr>
          <a:xfrm>
            <a:off x="1616040" y="5872320"/>
            <a:ext cx="102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S PGothic"/>
              </a:rPr>
              <a:t>(Zobel M., 199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ovéPole 6"/>
          <p:cNvSpPr/>
          <p:nvPr/>
        </p:nvSpPr>
        <p:spPr>
          <a:xfrm>
            <a:off x="7787880" y="58723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S PGothic"/>
              </a:rPr>
              <a:t>(Butaye et al., 200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ovéPole 7"/>
          <p:cNvSpPr/>
          <p:nvPr/>
        </p:nvSpPr>
        <p:spPr>
          <a:xfrm>
            <a:off x="3419640" y="561960"/>
            <a:ext cx="63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but very simil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rázek 8" descr=""/>
          <p:cNvPicPr/>
          <p:nvPr/>
        </p:nvPicPr>
        <p:blipFill>
          <a:blip r:embed="rId1"/>
          <a:stretch/>
        </p:blipFill>
        <p:spPr>
          <a:xfrm>
            <a:off x="219240" y="1689120"/>
            <a:ext cx="6019560" cy="3519360"/>
          </a:xfrm>
          <a:prstGeom prst="rect">
            <a:avLst/>
          </a:prstGeom>
          <a:ln w="0">
            <a:noFill/>
          </a:ln>
        </p:spPr>
      </p:pic>
      <p:pic>
        <p:nvPicPr>
          <p:cNvPr id="88" name="Obrázek 9" descr=""/>
          <p:cNvPicPr/>
          <p:nvPr/>
        </p:nvPicPr>
        <p:blipFill>
          <a:blip r:embed="rId2"/>
          <a:stretch/>
        </p:blipFill>
        <p:spPr>
          <a:xfrm>
            <a:off x="6810480" y="1112760"/>
            <a:ext cx="503388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ovéPole 3"/>
          <p:cNvSpPr/>
          <p:nvPr/>
        </p:nvSpPr>
        <p:spPr>
          <a:xfrm>
            <a:off x="2476800" y="760320"/>
            <a:ext cx="72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so m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pecies are in poor soil condi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ovéPole 4"/>
          <p:cNvSpPr/>
          <p:nvPr/>
        </p:nvSpPr>
        <p:spPr>
          <a:xfrm>
            <a:off x="1408680" y="5097600"/>
            <a:ext cx="920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es pool effects are important in frequently disturbed localities has been supported by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ies (e.g., Colli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et al. 2002; Belote et al. 2009; Myers &amp; Harms 2009,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ovéPole 5"/>
          <p:cNvSpPr/>
          <p:nvPr/>
        </p:nvSpPr>
        <p:spPr>
          <a:xfrm>
            <a:off x="6946560" y="2714760"/>
            <a:ext cx="46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Plants evolv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the countrysid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u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fect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by intensive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Kříž 2"/>
          <p:cNvSpPr/>
          <p:nvPr/>
        </p:nvSpPr>
        <p:spPr>
          <a:xfrm rot="2700000">
            <a:off x="5624280" y="2844720"/>
            <a:ext cx="584280" cy="583920"/>
          </a:xfrm>
          <a:prstGeom prst="plus">
            <a:avLst>
              <a:gd name="adj" fmla="val 25000"/>
            </a:avLst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římá spojnice 15"/>
          <p:cNvSpPr/>
          <p:nvPr/>
        </p:nvSpPr>
        <p:spPr>
          <a:xfrm>
            <a:off x="1036800" y="1870200"/>
            <a:ext cx="7920" cy="2276280"/>
          </a:xfrm>
          <a:prstGeom prst="line">
            <a:avLst/>
          </a:prstGeom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římá spojnice 16"/>
          <p:cNvSpPr/>
          <p:nvPr/>
        </p:nvSpPr>
        <p:spPr>
          <a:xfrm flipV="1">
            <a:off x="1036800" y="4133520"/>
            <a:ext cx="4305240" cy="12600"/>
          </a:xfrm>
          <a:prstGeom prst="line">
            <a:avLst/>
          </a:prstGeom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Volný tvar 13"/>
          <p:cNvSpPr/>
          <p:nvPr/>
        </p:nvSpPr>
        <p:spPr>
          <a:xfrm>
            <a:off x="1447920" y="2073240"/>
            <a:ext cx="3481200" cy="1928880"/>
          </a:xfrm>
          <a:custGeom>
            <a:avLst/>
            <a:gdLst>
              <a:gd name="textAreaLeft" fmla="*/ 0 w 3481200"/>
              <a:gd name="textAreaRight" fmla="*/ 3481560 w 348120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3482283" h="1929510">
                <a:moveTo>
                  <a:pt x="0" y="1678193"/>
                </a:moveTo>
                <a:cubicBezTo>
                  <a:pt x="142740" y="1590187"/>
                  <a:pt x="285481" y="1502182"/>
                  <a:pt x="463639" y="1240311"/>
                </a:cubicBezTo>
                <a:cubicBezTo>
                  <a:pt x="641797" y="978440"/>
                  <a:pt x="813515" y="298007"/>
                  <a:pt x="1068946" y="106970"/>
                </a:cubicBezTo>
                <a:cubicBezTo>
                  <a:pt x="1324377" y="-84067"/>
                  <a:pt x="1730062" y="25404"/>
                  <a:pt x="1996225" y="94091"/>
                </a:cubicBezTo>
                <a:cubicBezTo>
                  <a:pt x="2262388" y="162778"/>
                  <a:pt x="2438400" y="248638"/>
                  <a:pt x="2665927" y="519094"/>
                </a:cubicBezTo>
                <a:cubicBezTo>
                  <a:pt x="2893454" y="789550"/>
                  <a:pt x="3226158" y="1482863"/>
                  <a:pt x="3361386" y="1716829"/>
                </a:cubicBezTo>
                <a:cubicBezTo>
                  <a:pt x="3496614" y="1950795"/>
                  <a:pt x="3486955" y="1936843"/>
                  <a:pt x="3477296" y="1922891"/>
                </a:cubicBezTo>
              </a:path>
            </a:pathLst>
          </a:custGeom>
          <a:noFill/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1"/>
          <p:cNvSpPr/>
          <p:nvPr/>
        </p:nvSpPr>
        <p:spPr>
          <a:xfrm>
            <a:off x="2376720" y="42004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ovéPole 22"/>
          <p:cNvSpPr/>
          <p:nvPr/>
        </p:nvSpPr>
        <p:spPr>
          <a:xfrm rot="16200000">
            <a:off x="-25560" y="274176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44720" y="365040"/>
            <a:ext cx="6502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sturbance (heterogeneity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9" name="Obrázek 3" descr=""/>
          <p:cNvPicPr/>
          <p:nvPr/>
        </p:nvPicPr>
        <p:blipFill>
          <a:blip r:embed="rId1"/>
          <a:stretch/>
        </p:blipFill>
        <p:spPr>
          <a:xfrm>
            <a:off x="2371680" y="2036880"/>
            <a:ext cx="7448760" cy="3751200"/>
          </a:xfrm>
          <a:prstGeom prst="rect">
            <a:avLst/>
          </a:prstGeom>
          <a:ln w="0">
            <a:noFill/>
          </a:ln>
        </p:spPr>
      </p:pic>
      <p:sp>
        <p:nvSpPr>
          <p:cNvPr id="100" name="TextovéPole 4"/>
          <p:cNvSpPr/>
          <p:nvPr/>
        </p:nvSpPr>
        <p:spPr>
          <a:xfrm>
            <a:off x="2408400" y="5952960"/>
            <a:ext cx="479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S PGothic"/>
              </a:rPr>
              <a:t>http://www.colorado.edu/eeb/courses/2040bowman/EBIO2040//Syllabus_files/022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2"/>
          <p:cNvSpPr/>
          <p:nvPr/>
        </p:nvSpPr>
        <p:spPr>
          <a:xfrm>
            <a:off x="8849880" y="5952960"/>
            <a:ext cx="96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S PGothic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nell, 1978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5"/>
          <p:cNvSpPr/>
          <p:nvPr/>
        </p:nvSpPr>
        <p:spPr>
          <a:xfrm>
            <a:off x="4231080" y="168588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mediate disturbance hypothe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04:45:00Z</dcterms:created>
  <dc:creator>Aleš</dc:creator>
  <dc:description/>
  <cp:keywords/>
  <dc:language>en-US</dc:language>
  <cp:lastModifiedBy>Aleš</cp:lastModifiedBy>
  <dcterms:modified xsi:type="dcterms:W3CDTF">2015-12-01T20:03:56Z</dcterms:modified>
  <cp:revision>30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550</vt:lpwstr>
  </property>
</Properties>
</file>